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FF1-490F-47C0-84DF-8DCD24B5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7A0-E65B-4EA4-8C1E-FA344357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A6C-68EF-44F7-9C06-32C69F6B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72E-A704-479E-8694-8A95EECC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829-8601-46BE-BA74-8466A08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B3F-1DEB-42D1-80DF-6D0CFC4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AAF-1493-48EE-949B-7DA94D5C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578-444C-48EF-8839-F1C2146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062-480D-40FB-93B0-D32AF45C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DCA-593C-46EE-83AF-BCB34A4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2A7-68D2-4A07-841B-0D20309B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73E-957B-42F5-A1C7-470337F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A4F-9128-40F1-8E43-F511604B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ddJazz"/>
              </a:rPr>
              <a:t>Trefn y W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Tablau - gorffen y daflen goch - 5 mun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Gwir / Gau Uneda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Ymarf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## Estyniad##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Post i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8360" y="260280"/>
          <a:ext cx="8496360" cy="61930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100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ddJazz"/>
                        </a:rPr>
                        <a:t>Mae Keeleigh a Shannon yn pwyso blawd.  Mae Keeleigh yn pwyso 1.73kg a mae Shannon yn pwyso 174.5g o flawd.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ddJazz"/>
                        </a:rPr>
                        <a:t>Keeleigh sydd wedi pwyso y mwyaf o flawd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WIR / G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waith Cyfrif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4724280"/>
            <a:ext cx="17938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6:22:41Z</dcterms:created>
  <dc:creator>Betsan Wyn Thomas</dc:creator>
  <dc:description/>
  <dc:language>en-US</dc:language>
  <cp:lastModifiedBy>Betsan Wyn Thomas</cp:lastModifiedBy>
  <dcterms:modified xsi:type="dcterms:W3CDTF">2008-10-07T08:52:44Z</dcterms:modified>
  <cp:revision>2</cp:revision>
  <dc:subject/>
  <dc:title>Slide 1</dc:title>
</cp:coreProperties>
</file>